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3B69-4449-4205-BC1E-4388782571D5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6E42-C8EE-41DC-A2C3-4412FFA468E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F127-26EC-429A-93DF-F880F88B9150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5877-BD47-4A56-A625-EC25B194ED8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5178-AF91-4B3E-A50B-E98089386EC4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EFB59-A789-4700-BAC2-B9B49BE0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7ACCD-86DA-4BCD-9012-C060688F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61764-902D-4906-8375-F78B4982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5A412-BD5F-4DD4-875A-259A64C7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4DBE1-6DF9-4CFB-96F3-4F7C9F93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B6A56-F332-4E98-9DD4-5C4BDFEA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662CE-C658-42B8-BD5E-0DC1E86D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25AB4-C718-4EC3-B6E3-B4412C93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59CF8-86F2-4E05-B25F-EC4E796C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225E5-7A7B-40A1-B708-C97469F3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6D015-C08D-41BE-A509-6C0C3EA29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290CC-ED4C-42FF-9D57-104D3488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6300720" y="6237360"/>
            <a:ext cx="226224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1979640" y="3573360"/>
            <a:ext cx="4638600" cy="102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F30A-A0D2-471E-9A6E-D00F4F62923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34720"/>
            <a:ext cx="79898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uentes de oportunidades de negocio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 factores para evaluar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001000" cy="73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uentes de ideas de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Quiebres o Neces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edios de Comunicación (ej. Diari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ntretenimiento (oci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edes (ej. Compañeros-Socializa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erias y viaj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ondos de Foment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mbio de Paradigma (¿Qué no se puede hacer hoy pero si se hiciera cambiaría el mundo?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l cl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 la empresa (+valor, -costo, mejor adm.  activos, mayor valor de la empres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Hacer sudar los activ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gmentos en crecimiento (ej: Grupo D, tercera edad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rbitraje (dif. Costos mano obra, monedas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ndices de interés del negocio</a:t>
            </a:r>
            <a:br>
              <a:rPr sz="32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Dependientes de quien evalúa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1989000"/>
          <a:ext cx="7848360" cy="397080"/>
        </p:xfrm>
        <a:graphic>
          <a:graphicData uri="http://schemas.openxmlformats.org/drawingml/2006/table">
            <a:tbl>
              <a:tblPr/>
              <a:tblGrid>
                <a:gridCol w="2965320"/>
                <a:gridCol w="3154320"/>
                <a:gridCol w="358920"/>
                <a:gridCol w="13698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140"/>
          <p:cNvSpPr/>
          <p:nvPr/>
        </p:nvSpPr>
        <p:spPr>
          <a:xfrm>
            <a:off x="196920" y="2583000"/>
            <a:ext cx="7875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éri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maño del negocio (p*q) 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de cultura/costumbre/paradig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comercial (competidore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internaci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versión (monto, dificultad de obtención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apacidad del equipo empr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valuación (económica, operaci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pos y fuentes de Innov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140"/>
          <p:cNvSpPr/>
          <p:nvPr/>
        </p:nvSpPr>
        <p:spPr>
          <a:xfrm>
            <a:off x="357120" y="2000160"/>
            <a:ext cx="8102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el Producto (bien o servi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Model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olí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a innovación (los cambios) genera negocios al crear valor para el cliente (stakeholders) y/o para la empres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00:32:30Z</dcterms:created>
  <dc:creator>Antonio Holgado</dc:creator>
  <dc:description/>
  <dc:language>en-US</dc:language>
  <cp:lastModifiedBy>dii</cp:lastModifiedBy>
  <dcterms:modified xsi:type="dcterms:W3CDTF">2010-08-20T13:39:08Z</dcterms:modified>
  <cp:revision>9</cp:revision>
  <dc:subject/>
  <dc:title>Fuentes de Oportunidades</dc:title>
</cp:coreProperties>
</file>